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274-C7EF-4D7F-AD5B-BBEC3AAF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D17-6C48-4036-9B6D-D47D3150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BDC-354E-42EB-9F1B-9EDCE728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7C8-0667-404E-BFF5-BA2C4AA3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AEB-2B13-4AE8-9DDF-FA1E8168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7FC-E409-46B8-94EE-DBB16134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531-ED66-4F19-B6C8-747D7E05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915-89F7-45F5-8DB8-66B089BA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AB1-E3B8-4512-9BEC-FAF2F674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E32-7FBA-4546-9861-01B911B5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DA9-DB52-4161-A65A-37E92893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382-0AC7-4E22-B1F4-B9F17670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EE3-A059-4581-B49F-93CEFDF36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hzipup01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hzipup01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00080" y="2039760"/>
            <a:ext cx="30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     68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7000" y="218916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85880" y="2060640"/>
            <a:ext cx="93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6040" y="1362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644920" y="21729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35280" y="407052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1800" y="263700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6320" y="4886280"/>
            <a:ext cx="11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54560" y="3424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6840" y="3429000"/>
            <a:ext cx="8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4040" y="342756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36920" y="1362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76680" y="488952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08320" y="1332000"/>
            <a:ext cx="15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 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19400" y="25765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08320" y="402588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00080" y="2039760"/>
            <a:ext cx="30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     90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7000" y="218916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85880" y="2060640"/>
            <a:ext cx="93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56040" y="1362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644920" y="21729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35280" y="407052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01800" y="263700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6320" y="4886280"/>
            <a:ext cx="11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54560" y="3424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06840" y="3429000"/>
            <a:ext cx="8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24040" y="342756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6920" y="1362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76680" y="488952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08320" y="1332000"/>
            <a:ext cx="15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 2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9400" y="25765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8840" y="40100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00080" y="2039760"/>
            <a:ext cx="368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     1,33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37000" y="2189160"/>
            <a:ext cx="174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5880" y="2060640"/>
            <a:ext cx="93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97120" y="13492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644920" y="21729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408312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65520" y="2624040"/>
            <a:ext cx="13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10000" y="4861080"/>
            <a:ext cx="11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79720" y="3424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5360" y="3414600"/>
            <a:ext cx="13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24040" y="3427560"/>
            <a:ext cx="13194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78360" y="13492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1840" y="490212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9760" y="1319040"/>
            <a:ext cx="15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 5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9400" y="25765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24360" y="40226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3800" y="1150920"/>
            <a:ext cx="39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     22,11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1300320"/>
            <a:ext cx="213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9600" y="1171440"/>
            <a:ext cx="93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19400" y="4730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08280" y="128376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00440" y="296244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38520" y="1735200"/>
            <a:ext cx="13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60800" y="3675240"/>
            <a:ext cx="119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0520" y="2432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8720" y="2422440"/>
            <a:ext cx="13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87760" y="2538360"/>
            <a:ext cx="13190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40240" y="460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89280" y="378144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2760" y="168768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11440" y="290196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49560" y="458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3679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59000" y="41958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7120" y="4857840"/>
            <a:ext cx="11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25960" y="500220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37000" y="41353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25760" y="4862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6640" y="457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21240" y="5435640"/>
            <a:ext cx="12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59360" y="6097680"/>
            <a:ext cx="119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87840" y="624204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7720" y="53881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46760" y="468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1, 1 – 9 #1-1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3T12:56:50Z</dcterms:modified>
  <cp:revision>54</cp:revision>
  <dc:subject/>
  <dc:title>Slide 1</dc:title>
</cp:coreProperties>
</file>